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741-9722-41AC-ABBC-04CF7197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967-7816-431D-9ECB-46639A9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594-310B-49E3-8C0E-68F9E64E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2B7-EF9F-481D-84CB-BB47D767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221-2CA5-47D7-B97D-7CE489C7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2B1-81E8-4D99-9B92-8A26A826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4C7-42D6-49A7-AD0D-540B1EAD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19F-B610-428A-8151-E1208F72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B30-8E83-46B8-BBEA-FF4724E9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FEB-0A42-4026-A39F-480111B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AB1-A212-454D-B591-81BBD551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3A7-75C9-4488-BE1F-31E117FE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BD7D5-D240-41CD-A5A1-FF9551A5190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a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car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oo%20many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ter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m%2013%20fi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av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l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ark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head.mp3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ois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ain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ats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y dear Joh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151600" y="2597040"/>
            <a:ext cx="442584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51600" y="2840040"/>
            <a:ext cx="442584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51600" y="2935440"/>
            <a:ext cx="442584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ts of love from Mom and Dad,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51600" y="2881440"/>
            <a:ext cx="44258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51600" y="2879640"/>
            <a:ext cx="442584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51600" y="2238480"/>
            <a:ext cx="442584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51600" y="2274840"/>
            <a:ext cx="44258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91160" y="1768320"/>
            <a:ext cx="3546360" cy="498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720" y="2519280"/>
            <a:ext cx="41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51600" y="2658960"/>
            <a:ext cx="442584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151600" y="1936800"/>
            <a:ext cx="4425840" cy="465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12:30:52Z</dcterms:created>
  <dc:creator>dominique  camier</dc:creator>
  <dc:description/>
  <dc:language>en-US</dc:language>
  <cp:lastModifiedBy>dominique  camier</cp:lastModifiedBy>
  <dcterms:modified xsi:type="dcterms:W3CDTF">2014-02-01T13:02:24Z</dcterms:modified>
  <cp:revision>15</cp:revision>
  <dc:subject/>
  <dc:title/>
</cp:coreProperties>
</file>